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3FC1-BDCA-4373-A4C2-A25E83C55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EC47-6BCD-461F-825A-453FA0A5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006B-F79A-45D3-B614-F19BEA96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483E-9346-4878-A16C-B9DCA6D77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F6F1-EDE1-4264-8FFB-2BEA8633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8703-EA85-4AE5-A43F-48A23763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EEC7-43F1-4BE3-AF0A-ADB684CC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BB9C-9902-4DAD-A6F9-7C184EAB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B072-6704-4F14-A16C-43072F11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04C7-B360-4DD4-99D1-34DD42B8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5FD5-104D-47AB-B856-2FA1D58A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16D3-4153-43A8-AB7F-9A1EECDB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1F01-DE28-4AE4-AC71-D01493BEE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ets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657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nion and Intersection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76320" y="0"/>
            <a:ext cx="39621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=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=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666880" y="152280"/>
            <a:ext cx="6858000" cy="61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{6,12}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{2,3,4,6,8,9,10,12,14,15}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{10,15}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{2,4,5,6,8,10,12,14,15}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2,3,4,5,6,8,9,10,12,14,15}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Key Points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et Notatio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Venn Diagra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Empty Set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{ }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Ex. Set A={2,4,6,8,10,12,…}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- infinite set (never ends)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Ex. Set B={2,4,6,8,10,12}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- finite set (has a certain amount)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Ex. Set C={…,2,4,6,8,10,12,…}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- infinite set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Venn Diagram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sed to visually represent sets of dat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 organization of data using overlapping circ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ata gathered in se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ts can be made up of numbers, amounts, etc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Using the following sets create a Venn Diagram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Number Se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et A = {3,6,9,12,15}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et B = {2,4,6,8,10,12,14}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et C = {5,10,15}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Oval 5"/>
          <p:cNvSpPr/>
          <p:nvPr/>
        </p:nvSpPr>
        <p:spPr>
          <a:xfrm>
            <a:off x="2743200" y="304920"/>
            <a:ext cx="3581280" cy="335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6"/>
          <p:cNvSpPr/>
          <p:nvPr/>
        </p:nvSpPr>
        <p:spPr>
          <a:xfrm>
            <a:off x="4419720" y="2209680"/>
            <a:ext cx="3657600" cy="3810240"/>
          </a:xfrm>
          <a:prstGeom prst="ellipse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7"/>
          <p:cNvSpPr/>
          <p:nvPr/>
        </p:nvSpPr>
        <p:spPr>
          <a:xfrm>
            <a:off x="1371600" y="2286000"/>
            <a:ext cx="3962520" cy="3657600"/>
          </a:xfrm>
          <a:prstGeom prst="ellipse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533520" y="5410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t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7543800" y="5410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t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6705720" y="3808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t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6058080" y="762120"/>
            <a:ext cx="324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{3,6,9,12,15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300240" y="5867280"/>
            <a:ext cx="436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{2,4,6,8,10,12,14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5"/>
          <p:cNvSpPr/>
          <p:nvPr/>
        </p:nvSpPr>
        <p:spPr>
          <a:xfrm>
            <a:off x="6822000" y="5867280"/>
            <a:ext cx="239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{5,10,15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Oval 2"/>
          <p:cNvSpPr/>
          <p:nvPr/>
        </p:nvSpPr>
        <p:spPr>
          <a:xfrm>
            <a:off x="2743200" y="228600"/>
            <a:ext cx="3581280" cy="342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"/>
          <p:cNvSpPr/>
          <p:nvPr/>
        </p:nvSpPr>
        <p:spPr>
          <a:xfrm>
            <a:off x="4419720" y="2209680"/>
            <a:ext cx="3809880" cy="3810240"/>
          </a:xfrm>
          <a:prstGeom prst="ellipse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4"/>
          <p:cNvSpPr/>
          <p:nvPr/>
        </p:nvSpPr>
        <p:spPr>
          <a:xfrm>
            <a:off x="1295280" y="2286000"/>
            <a:ext cx="4038840" cy="3657600"/>
          </a:xfrm>
          <a:prstGeom prst="ellipse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0" y="5410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t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7543800" y="55627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t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5943600" y="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t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3886200" y="7621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, 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5257800" y="23623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4419720" y="37339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6172200" y="38098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3352680" y="24382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,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1981080" y="373392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,4,8,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ymbol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following symbols can be used with Venn Diagrams and S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Un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s that are in either or and b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number listed in order o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Intersec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mbers that are in bo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Ø – empty se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et with no valu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Using the number sets from before find the following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0" y="220968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. A </a:t>
            </a:r>
            <a:r>
              <a:rPr b="0" lang="en-US" sz="6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B =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. A </a:t>
            </a:r>
            <a:r>
              <a:rPr b="0" lang="en-US" sz="6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B =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3. A </a:t>
            </a:r>
            <a:r>
              <a:rPr b="0" lang="en-US" sz="6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C = 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. B </a:t>
            </a:r>
            <a:r>
              <a:rPr b="0" lang="en-US" sz="6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C =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5.A</a:t>
            </a:r>
            <a:r>
              <a:rPr b="0" lang="en-US" sz="6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6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 =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6.A</a:t>
            </a:r>
            <a:r>
              <a:rPr b="0" lang="en-US" sz="6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6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 =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21:08:01Z</dcterms:created>
  <dc:creator>Teacher</dc:creator>
  <dc:description/>
  <dc:language>en-US</dc:language>
  <cp:lastModifiedBy>Lauren Senske</cp:lastModifiedBy>
  <dcterms:modified xsi:type="dcterms:W3CDTF">2009-09-01T21:45:50Z</dcterms:modified>
  <cp:revision>8</cp:revision>
  <dc:subject/>
  <dc:title>Sets </dc:title>
</cp:coreProperties>
</file>